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7BD-E25C-432A-BF29-D9AAD9C5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71F-CA68-45F3-8D21-ACB4A191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089-913C-492E-AC1B-85ED6120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CFC-3AFE-4653-A771-5649218E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9D10-025F-420E-88AB-16479C0B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8D0E-941F-4F61-95F9-42EFF571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2AC2-879B-4D2D-A039-BAE113BB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CEE9-ACFB-41E8-B59D-D4EA4422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037B-CFBF-404D-B19D-D99478E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879E-754D-46A1-8066-E8F43A10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DE17-20B3-4DA2-B0AD-85C59953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13D-A2B3-4922-86D1-66137719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47CB-483A-4EE8-BF49-F240708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A7F8-7C23-4D45-B63D-7C744E7B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8B6E-22C8-4DCB-9176-1575D9D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D459-9D33-4D9D-A4E0-4459CD94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E5F1-6C0C-40C6-8E90-AD702F2A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DF4-A1BE-450F-A38D-B76372DD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1DF-FFAE-411A-ADB2-88C37658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E2C-7A45-4DBD-A60F-BB5EBB72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63F-09BE-422B-A8C5-3E17F10D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024-1BBF-412B-84EE-5A45465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008-F93A-4CCC-BBE4-8AC134A0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55A-E5C9-4D83-BFA3-1A2B336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CB10-4D36-4F70-A3FA-CB727639C490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212D-E1DD-47A5-9A3C-2498B3FC7401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16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iley and Julia Present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Noble Ga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4055040"/>
            <a:ext cx="698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-Heli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-Ne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-Arg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r-Krypt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e-Xen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n-Rad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of these elements are gases… that’s why their called the Noble Gases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189000"/>
            <a:ext cx="701964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Elements are in the Noble Gase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-3473280"/>
            <a:ext cx="8244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Noble Gases are located in what we like to call AI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you would like to know…the noble gases are located right beside the Halogen Fami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so the Noble Gases are found where the non-metals are.' Cause their either gases or non-me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549360"/>
            <a:ext cx="7417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ere is it located??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High Or Low?!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000082">
                  <a:alpha val="99215"/>
                </a:srgbClr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Noble Gases  Reactivity is very low so a world wide web says…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you know that the number of Valence electrons The Noble Gases is 8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Where in the world are you elements?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found Helium! I found him on the su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h yeah, well I found Neon… in the ai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found Argon in Volcanic Ga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ll I found Krypton on a meteor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enon is found on Meteorites al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on is found in underground deposi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6080" y="274680"/>
            <a:ext cx="71280" cy="698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gon is used for Light Bulb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rypton is used for the lights on the airport runw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eon is used for strobe ligh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on is used for high voltage indicato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lium is used for filling balloons as it is safer than Hydrog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on is actually not used for commercial produc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620640"/>
            <a:ext cx="746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What  are the elements used fo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-4474080"/>
            <a:ext cx="13320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you know that Radon is the second cause for lung cancer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r William was the first British chemist to successfully isolate the Noble Gas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on is the heaviest Noble Ga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32000" y="404640"/>
            <a:ext cx="59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Awesome Facts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4396320"/>
            <a:ext cx="8244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iley and Julia thank you for watching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ke sure you check out other films of the periodic tabl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y saf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do drug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 Happ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OD NIGHT EVERYBODY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16000" y="549360"/>
            <a:ext cx="63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Thanks For Watching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0:01:49Z</dcterms:created>
  <dc:creator>tatumadmin</dc:creator>
  <dc:description/>
  <dc:language>en-US</dc:language>
  <cp:lastModifiedBy>tatumadmin</cp:lastModifiedBy>
  <dcterms:modified xsi:type="dcterms:W3CDTF">2009-12-04T20:16:17Z</dcterms:modified>
  <cp:revision>5</cp:revision>
  <dc:subject/>
  <dc:title> Bailey and Julia Presents:</dc:title>
</cp:coreProperties>
</file>